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00B5-FA07-4B3B-8F03-9EBA5C031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8317-210C-4769-8820-52352ADF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CF094-E972-477E-8295-AF7A4835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61A67-41E6-451C-82BA-0405F1D0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7EF1D-AA63-4EBA-A7C9-3514874B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851FD-E2E7-4D79-8036-6661E932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15B61-55A9-498B-83F2-2890F417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7EBA5-FF90-429D-A46D-641FFC60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E6B32-F087-4604-B7E0-E53D8C38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29A8A-7543-4D15-9A26-51AAC7196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CD1FF-E7C5-43CC-B127-98932FA93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A92D73-9B84-4D28-958A-B5AC29CAC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ED56-DA92-4754-90E1-3CB75B727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0F679-131C-4742-A20D-ED2FE189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252B8-E032-4B65-AF6E-312A5B9A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D3E8E6-2E8C-490A-AE8C-EAFF87F4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9AF0DA-300F-4994-977F-E2DEA232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D3D6EA-D175-4A4F-9F88-93587BA4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EA6DE-714B-43B0-B751-1FE0058E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087F44-5064-451C-AE6A-93C73652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D503B4-0001-40BD-A213-EFAAC18B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0E10E0-B88D-4AA8-A1A2-C29237BC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34149E-C8BB-48F5-B865-8FDB0855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A8AE-450F-4D54-815A-69BF0CE98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3415B-D3FD-446C-A8CA-404DDE805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58F08-380E-46AF-9441-641934472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FCE89-5D6A-4987-AA8A-C65E4A22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B03E3-52BC-43F8-B18C-F4140149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967B1-35F8-499A-985A-C9DCA0F2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9F95B-F385-4173-B926-EAC95DDE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35C8E-D6D6-4850-B96A-9C5F1073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1C52F-0663-458F-B349-A039EE5F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42FEE-9E55-414E-9981-AA44AF81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FD2FB-E469-4554-89AF-9F217B46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36A5-5053-4D8B-9E57-454BF36E3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2E5B0-3628-4F78-B35C-A49821AD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12D05-F4CC-4C69-B7E3-5A5E905CA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3EF67-D372-4D79-AA00-9A7B5FC5A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BE9A47-6987-42F8-BB55-D08DF3728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611885-D608-4E1C-B6F3-7C248263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62D080-384C-43BD-96FA-2F9BB4AA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D0A52-AB86-47C4-AA81-A2B2CE2A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913A22-3907-49F6-BEF7-E59255C4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14DB3-CC6F-4BE1-9213-4A498CCD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98DA0E-D95E-4694-AD49-6FA8D3E6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8E74-1B17-4084-9ECA-E9256B55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8CF27C-71BA-43E3-8F27-214B5E75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6E2D42-E6CF-427E-8CC4-D41F9F84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F7AD4A-C20D-4B74-9E95-49A2A6E4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64BFC3-F8CE-4C91-8BCC-963CE0A34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8E0D31-FF36-4083-8CD5-73546351F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90B14C-9495-48C5-B5B1-A2D046FDC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2402E0-CB29-48EC-A8A7-E1852117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A04611-978F-4D9E-A4FA-1AB3CF12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AB442D-ED15-4F6F-A8DA-4DFECCEB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643D78-D2A7-4CF5-ADD6-60C8AB69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77CF-AFED-42B3-A9C7-F9133813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059924-86B7-4925-9AAB-F77B80C0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2DBC59-D032-45C8-A4DD-BFF65F24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9E30F5-5ED5-413F-8A0B-35686CD1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F5DD1B-A714-4A3E-8601-12603FDF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B48415-8440-4660-A5A8-4FC0B2D3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429ACD-09F4-4640-9343-59A8BE6A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D94D1E-8350-4A41-9A49-F1C197560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67DEEC-8AEA-4CEB-8082-8F7BCB58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B3EDEE-E032-4DD8-B19C-CD3828FE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F245CB-D0FB-4D06-BA02-981525FF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9928-74F8-4BBD-8BDC-AAC0A111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D11414-9BE2-4958-A08B-AAD98EDC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64A5F0-747A-4C0C-940B-B55CCFC8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DAFE6F-8647-457B-98CE-C9B8AB95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4286C8-34C6-44EB-850A-C993D858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F54415-7D60-46F0-9405-29FD0CD7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FAFE43-4C20-4F57-8C74-B3F7F4E7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A60C14-BA2F-454B-8E15-439CF853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3BCB43-6510-4F5D-A2FE-963C65274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138D22-CAF5-4380-9B2E-6B6045E87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5427BE-591B-45DD-8250-4ECE72115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2B3B-826B-4C28-927A-F1E8E8E7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E398B8-7879-415B-8669-3157FF0F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F4246A-E54B-4794-8688-7DAAFB93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0F1F73-ADE7-4674-AFB3-EF7E09DA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3A0520-5602-4F0B-8708-11FA2E08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DBF34F-6013-4654-BA39-97BE7384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D6B101-3230-4429-B1A1-072997C2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4EDD03-88C4-4C0E-A781-31D46BFF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D6813C-25BD-4A5F-AAC4-EBE46BB1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E52C4C-C871-4493-99B8-CA4A7A95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468328-F32A-4394-B58F-C0C05DA8F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F81E-4108-4AA2-9F64-39D0717D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A91900-74CF-44F7-B7B3-083217CD6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9E1DD2-83E4-4744-A6AF-DE124EEBE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BE7BE3-DEB6-42B3-8AFA-969E84D7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8D9915-7643-4AAE-B7ED-B7F512B1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9D4A29-1567-4E95-9EA1-F16BD476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5DF62D-55E1-4693-BC00-85D68ABA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9610CF-BE8A-4C45-86B8-4DB0DB96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E60392-AFBE-49C8-A0F8-AF312780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287D3F-783A-47DB-BDDA-C1969660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E81D36-7A72-4A4B-B48C-C5A16567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DA73-B280-47FE-B7BB-D06C51A4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6F1197-CC3F-418F-A5D6-54632482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9DF826-13C6-4321-B4B9-D76D65FB8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7EE629-49FD-4D55-9EEF-69AE10EDC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660424-5902-4AD7-BBBA-6BD98E23F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6E2F7C-2AD3-4AA5-9058-C9EBD8B3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D0B982-21DA-49EE-927D-C3B34B4B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9489BC-AD93-495F-8406-14AF7B37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CB2CB7-C80E-4685-8CE4-A2579173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B88A68-AAD4-456E-9EF3-6A1BA2C4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F586BD-17ED-4D3F-9EA6-410EF138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98BE-49B1-4D45-AF58-A555405D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6871-FD3B-451B-B2AC-982AB3C8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E780FD-46A7-4ECB-8E8B-00BFB93F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B379DB-C583-4326-A7D1-C1040F83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69BCAE-3067-4D64-BCC7-6BDD4A7F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B3443F-C5A3-4AF7-ACAE-C116FE86A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944EF2-2034-4BB0-ACC7-844C968AF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97002A-BFD1-4F1C-97DB-01D601C0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597192-6564-4597-B7D9-F25B0013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36F575-8EC9-4AB2-AB48-3B9E9B59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60A897-C5D0-4F61-9DB5-5A18589C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36FFB9-4AE0-488B-AFBC-ECAE3BCA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EE12-04B1-4CFD-9F6B-22B1B758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6EE174-29CB-4B99-9F89-8BE8697B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5B8099-4535-4975-B57D-B315968E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3DC3E7-5C8D-434E-9421-9A11192C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02226C-24AA-4F49-B9E0-B3AC088F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575CA5-0127-4884-BB24-20E784A5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1DA65B-AEB8-4E3D-B1C5-C23A1B31C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413376-E795-4FF2-A07B-8F235C1EA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64FC85-695F-4957-B6C7-F81DDE8DB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B6F51D-0670-4205-9532-7B652EC8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098D32-4533-4266-87D8-E6C11826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5865-F652-41EC-8950-6D5150F2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8F32E2-2CD7-4124-BD3D-8EEF2EC0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86E29D-5258-4607-9A8E-392F5044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7D15C0-92D5-45AE-8851-F8983C4D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59D444-6312-42A9-8533-445DA9FA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496D43-7DB4-45BE-B8E6-30F7F7BD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2323A7-1158-44A4-909C-A8E43CBD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A706BB-6098-4EBA-9160-91195756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0AA72D-A3FE-48C5-BA55-6AE95EFB5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9E5089-681E-4A66-9F37-442BEAB4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507BCA-E358-4770-8A39-D8A6659DC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E58C-8C7C-4A74-AD75-4A2CFECFF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A42FE8-AB37-47C4-A4FE-5CC27495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1C6EAD-2F3C-47E0-9826-1F29DE86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C6BD90-2321-4626-9655-B9F94665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17E369-8FBE-416A-8FDB-7773F59C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806E0D-0215-4C9E-B72A-FB78D79F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8C236B-85C8-419F-B4DD-51357478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F630C9-6AB5-4F68-82AF-71B2166F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481B19-FF4F-41E1-9422-793D55D7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A90D04-E6A7-4510-A324-0BFC7D0A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A5B9A2-0E21-48A3-9AC2-869F27A4A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9F9D-4723-4E28-B527-00E175967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3E44E4-5B7D-4AEC-8319-5EF38FB5A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0754EE-2418-4C64-A11F-1722D214A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09F5DD-29C3-45B9-8C8C-C6158AF2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9EB285-277A-4083-8DEC-0C729403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1F1485-E75F-4D3F-B1DD-A5E681FC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C58EA3-E190-46C9-A27B-553867AF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790209-714D-45E9-9CC9-C1F5FC3D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1B1DEA-F160-4E56-8EEF-41DCAA9E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1D1EF8-16A2-420F-B47C-16160D5F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D8F75D-7C03-4288-8001-0D4CBBEE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A5578-6D63-46C7-9364-CF8ED26E0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E38082-2B3A-4D4F-9CA2-E3BCD327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FD70CA-A39C-4426-A765-83BC5A9A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C21379-E932-4263-8B07-DF9EE6BA8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BFDFE-DD99-4AC0-9FB8-50B7ABEC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C6156-D0DD-4422-8AD4-5C0FF23D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AA3D6-C0A8-4C7F-9B0F-E3023BF1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8C178-6F6E-4C0C-A81A-A1A47438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DAE6-6859-4750-9251-2B66DD79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BD97D-0083-4306-A971-172BC3D5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208FF-9FA9-430F-B3B4-DDCDFAB6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6CA92-ADCE-4A53-BC83-F31965FA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7DFF4-6327-4BE2-88FD-18B8DA72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BFB4C-5C97-439C-975F-C7FE3010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A6A4C-C23D-4F1E-A975-1824AF93F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93D22-681B-4EE6-938E-07C8B37F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4C314-EE85-4590-AFCC-55D047F1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4AF2C-101D-43F2-8F0A-70E87278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AEA61-C6F5-4D45-968C-B03B6FD1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4B76-0EE9-4800-A990-A3BB6EF3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50514-F052-48EB-B2DA-AA76B8FF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2A067-A280-494B-9807-3F65F7FF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48710-5F20-4A42-B3BC-C91EE858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B527C-0FE7-4CF9-8EBB-AFD0DE1B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6E877-7E32-44DA-99F6-239A517E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52B7D-AA89-4126-9875-FB3D62A5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B4E58-1129-4D95-B6E9-95BD8EAC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861B0-106A-4AB2-A980-4792BEFA4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F7736-C560-49E2-828A-F578FA18F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5F8E4-3200-494E-BCCD-01D0A712C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E932-936F-4179-813F-72E95C5B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51013-6F4D-4DE8-9202-8DE8E186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ED59F-591D-40F6-903B-7ED56EB6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20579-0A09-47B8-BFA5-1190BB3D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1E945-9ACC-425A-9CF2-9F615533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8FE91-1647-4A0F-AC0F-6C5CD357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E4597-0EBF-4A84-9670-D1B4B7A6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4CE96-43D8-461D-8CA2-82063E56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62784-F18C-422B-8CCF-74D3DA27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A6133-0FA4-4E12-AC1D-99600A8D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418C6-0470-4F53-97F1-F2B08448E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3588-F811-4971-BABF-885C3EC4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34A1E-2212-4705-8D4D-4C8070820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C9C3A-C707-4395-B713-34FCE3C4B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88707-6EC6-46A5-BA2E-2019B6C1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A9D9B-D660-4E6A-AAC1-A226747B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1106B-02D6-44CC-8084-32DE236D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E9FD6-1231-405D-BA31-18F4953C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D6155-E39B-458D-B141-847AD5F4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28E3B-A607-4FB8-AE3D-11522286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E4F4C-7489-4688-AA58-5531A764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14CC1-5E5E-4CE7-B46B-91AF74BC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4A2D-71C3-49E7-9B40-9BF33971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B79A3-3C61-4207-9C65-6F714A63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B25E6-535C-4688-87E7-88E6BA1B4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28097-91BB-427A-AA7D-72E4507C9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535F2-3266-41E8-8986-F57E72389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A5BEA-761D-4A6C-8540-494A4C31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5E325-34E4-4D94-87D2-8A0732B1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7E84F-BBF3-403A-9272-258F6534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7BFD2-2928-49A3-B0D5-3824B4D3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DDF21-9C4E-487F-ACD1-EC08EDE0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35514-2F35-48D9-8260-17B5EB46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483D-C6F2-426C-9ED6-4D2B172D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FDE04-646B-409A-93A4-7EAF5B03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EF06C-7E8B-41AA-9E2A-469DC302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5D30C-6BBB-4ECC-A504-810A4A29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02E67-3048-4A22-87DC-0F46E549F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E6A2F-6FCA-4599-BCE7-0DB4EBD16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02E24-E560-44D8-8AB4-841D18CB2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8DC20-C092-4D27-925B-6CD33F07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20B05-235E-4AD0-95EE-85EA3A91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46439-4701-4025-BF79-4C5C2395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E7965-450B-405A-863B-6F0284DA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2283-51BF-44FE-9873-A8CCE399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83F95-3B53-482F-A517-FD352BCB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66747-D03F-40E9-B55A-D89DA590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6F565-0DC7-4F92-9EFF-17F50CF0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4A250-6B14-4728-AEF8-1DED6A03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6919C-E862-4B2A-A337-F9594F45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C1980-85A8-43A5-9268-D6E83F63D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9B8BB-B2FD-425A-9D05-CE133BD98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5ED7C-B07A-4EE9-9F5A-476C858F6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B8F6C-D853-4152-AEE0-7199EE5D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BF33F8-9C37-4F2D-A329-A765B6AD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D919-7D32-4A0F-B33D-7E9B7DB895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E2E5-8FD9-4387-B381-8AF43C7CDD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ADDC-35AE-4932-976F-92E660A556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5E76-ADE7-46DD-BDD5-9745B36503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A3D3-37D2-40DB-B582-936C87032E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3D68-9F45-45D5-AFE8-E462CDE273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1A2F-B774-4B46-BAC6-F31FD7B461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9C82-41C4-4A31-A446-48DD4DA86A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A271-4890-41E8-8AE5-2E6372A8D1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60B0-A2A3-415B-9D96-69C9E2EAD3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F706-47BB-435B-9FCC-FDD4D10114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E5A6-D712-4F63-BEB2-8C3BF360C6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9373-0A02-48B2-A2FD-36CBDB05C7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8C61-197E-41D8-AAE0-E3FA54A235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BCEF-BD21-45E9-9F10-1B1BD74D94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848A-454D-4553-B27A-57E5BA93A0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3110-E543-483D-BE94-8FA783FD2F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70C8-AF09-4607-A94F-2E073552C1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9BBA-F721-4581-9D03-C932150025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B2EE-54FC-4041-AF80-AF0D62B394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668A-7DCD-47D8-8EF9-B46D95CE9A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3166-D1E2-4E73-B7B3-3ECCF07520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015E-CFEB-4FB3-B139-73D104EB38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268C-93CA-4FE5-841D-0D38479C29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2B64-0951-47B5-9978-9F7CAA872D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C0A8-1B64-4764-BDD8-81ADA5048A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FF93-3B6B-43A2-8587-E6A773A861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E598-DF90-41AE-9F83-C180511F23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00F5-4308-4CD2-A291-3900669EB0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D8EF-2614-4E1B-9F0D-DEC6F79258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4D15-2655-41AD-99E9-697AB58ECE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3763-1A1E-4601-9274-FEAA45F4CE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A714-B7AC-41E3-8DE1-0E280B7751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3314-1CDC-4311-9043-E4A944047B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178A-A011-4AFD-99F0-E2E4DA4EAF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91E8-FA02-40B3-AA45-800B77272D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F2BE-5912-407B-8C2B-38F4672B67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A1FB-BC57-475F-BE0C-AE4EAA4BD2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C33B-3345-414B-9393-26C8874B56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3050-6414-4C50-AE29-6B96B602FD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328760" y="3000240"/>
            <a:ext cx="648648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69633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6458040" cy="2076480"/>
          </a:xfrm>
          <a:prstGeom prst="rect">
            <a:avLst/>
          </a:prstGeom>
          <a:ln w="0">
            <a:noFill/>
          </a:ln>
        </p:spPr>
      </p:pic>
      <p:pic>
        <p:nvPicPr>
          <p:cNvPr id="952" name="图片 69634" descr=""/>
          <p:cNvPicPr/>
          <p:nvPr/>
        </p:nvPicPr>
        <p:blipFill>
          <a:blip r:embed="rId2"/>
          <a:stretch/>
        </p:blipFill>
        <p:spPr>
          <a:xfrm>
            <a:off x="826920" y="3789360"/>
            <a:ext cx="7743960" cy="199080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4038480" y="1413000"/>
            <a:ext cx="533520" cy="7207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4067280" y="2276640"/>
            <a:ext cx="533160" cy="7207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5"/>
          <a:stretch/>
        </p:blipFill>
        <p:spPr>
          <a:xfrm>
            <a:off x="7064280" y="1413000"/>
            <a:ext cx="533520" cy="7207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6"/>
          <a:stretch/>
        </p:blipFill>
        <p:spPr>
          <a:xfrm>
            <a:off x="7093080" y="2276640"/>
            <a:ext cx="533160" cy="7207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7"/>
          <a:stretch/>
        </p:blipFill>
        <p:spPr>
          <a:xfrm>
            <a:off x="2211480" y="3976560"/>
            <a:ext cx="533160" cy="7207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8"/>
          <a:stretch/>
        </p:blipFill>
        <p:spPr>
          <a:xfrm>
            <a:off x="2124000" y="4840200"/>
            <a:ext cx="533520" cy="7207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9"/>
          <a:stretch/>
        </p:blipFill>
        <p:spPr>
          <a:xfrm>
            <a:off x="5164200" y="4005360"/>
            <a:ext cx="533160" cy="7207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10"/>
          <a:stretch/>
        </p:blipFill>
        <p:spPr>
          <a:xfrm>
            <a:off x="5076720" y="4869000"/>
            <a:ext cx="533520" cy="7207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11"/>
          <a:stretch/>
        </p:blipFill>
        <p:spPr>
          <a:xfrm>
            <a:off x="7899480" y="3990960"/>
            <a:ext cx="533160" cy="7207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12"/>
          <a:stretch/>
        </p:blipFill>
        <p:spPr>
          <a:xfrm>
            <a:off x="8142120" y="4897440"/>
            <a:ext cx="5335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95200" y="781200"/>
            <a:ext cx="8553600" cy="57434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6227640" y="3270240"/>
            <a:ext cx="1368720" cy="447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4284720" y="3860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6516720" y="4508640"/>
            <a:ext cx="1368360" cy="8650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4859280" y="55609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4903920" y="607860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557280" y="1409760"/>
            <a:ext cx="8029440" cy="40384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6084720" y="1557360"/>
            <a:ext cx="1727280" cy="8636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4572000" y="2565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4572000" y="30970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5"/>
          <a:stretch/>
        </p:blipFill>
        <p:spPr>
          <a:xfrm>
            <a:off x="1692360" y="450864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8373" descr=""/>
          <p:cNvPicPr/>
          <p:nvPr/>
        </p:nvPicPr>
        <p:blipFill>
          <a:blip r:embed="rId1"/>
          <a:stretch/>
        </p:blipFill>
        <p:spPr>
          <a:xfrm>
            <a:off x="318960" y="723960"/>
            <a:ext cx="8506080" cy="5800680"/>
          </a:xfrm>
          <a:prstGeom prst="rect">
            <a:avLst/>
          </a:prstGeom>
          <a:ln w="0">
            <a:noFill/>
          </a:ln>
        </p:spPr>
      </p:pic>
      <p:pic>
        <p:nvPicPr>
          <p:cNvPr id="934" name="图片 58375" descr=""/>
          <p:cNvPicPr/>
          <p:nvPr/>
        </p:nvPicPr>
        <p:blipFill>
          <a:blip r:embed="rId2"/>
          <a:stretch/>
        </p:blipFill>
        <p:spPr>
          <a:xfrm>
            <a:off x="1576440" y="2521080"/>
            <a:ext cx="2666880" cy="1038240"/>
          </a:xfrm>
          <a:prstGeom prst="rect">
            <a:avLst/>
          </a:prstGeom>
          <a:ln w="0">
            <a:noFill/>
          </a:ln>
        </p:spPr>
      </p:pic>
      <p:pic>
        <p:nvPicPr>
          <p:cNvPr id="935" name="图片 58376" descr=""/>
          <p:cNvPicPr/>
          <p:nvPr/>
        </p:nvPicPr>
        <p:blipFill>
          <a:blip r:embed="rId3"/>
          <a:stretch/>
        </p:blipFill>
        <p:spPr>
          <a:xfrm>
            <a:off x="1576440" y="5445000"/>
            <a:ext cx="266688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7352" descr=""/>
          <p:cNvPicPr/>
          <p:nvPr/>
        </p:nvPicPr>
        <p:blipFill>
          <a:blip r:embed="rId1"/>
          <a:stretch/>
        </p:blipFill>
        <p:spPr>
          <a:xfrm>
            <a:off x="1471680" y="1333440"/>
            <a:ext cx="6200640" cy="41911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1692360" y="4437000"/>
            <a:ext cx="42480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6324" descr=""/>
          <p:cNvPicPr/>
          <p:nvPr/>
        </p:nvPicPr>
        <p:blipFill>
          <a:blip r:embed="rId1"/>
          <a:stretch/>
        </p:blipFill>
        <p:spPr>
          <a:xfrm>
            <a:off x="271440" y="1519200"/>
            <a:ext cx="8601120" cy="38196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826920" y="3213000"/>
            <a:ext cx="4321440" cy="9367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971640" y="4365720"/>
            <a:ext cx="43210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5300" descr=""/>
          <p:cNvPicPr/>
          <p:nvPr/>
        </p:nvPicPr>
        <p:blipFill>
          <a:blip r:embed="rId1"/>
          <a:stretch/>
        </p:blipFill>
        <p:spPr>
          <a:xfrm>
            <a:off x="290520" y="1190520"/>
            <a:ext cx="8562960" cy="44769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1042920" y="3789360"/>
            <a:ext cx="4969080" cy="10224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900000" y="4797360"/>
            <a:ext cx="575964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4276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267760" cy="6162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1403280" y="3789360"/>
            <a:ext cx="4464000" cy="9349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1403280" y="4869000"/>
            <a:ext cx="4464000" cy="9349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1332000" y="5950080"/>
            <a:ext cx="525600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2231" descr=""/>
          <p:cNvPicPr/>
          <p:nvPr/>
        </p:nvPicPr>
        <p:blipFill>
          <a:blip r:embed="rId1"/>
          <a:stretch/>
        </p:blipFill>
        <p:spPr>
          <a:xfrm>
            <a:off x="642960" y="1709640"/>
            <a:ext cx="7858080" cy="34387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1042920" y="3068640"/>
            <a:ext cx="5257800" cy="9367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1187280" y="4192560"/>
            <a:ext cx="63374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0:31:25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